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9D5-9DA7-4955-95B9-316FA441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047-2852-457F-A7A1-7FE18E01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319-5B90-4E46-9CB9-0CB01836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76D-8F67-4D6B-86A2-3EE35952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4F2-CD13-45DD-A795-8A12C3AC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DCC-D1A9-40B5-BFA8-31C87F61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C93-EC12-4B03-80DC-04E417B4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081-0BC3-4107-9125-35D8F33A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B94-010D-4B11-B5F3-4A53D485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57D-0894-4EE0-A1AE-929D4E2C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059-628B-48FA-8C49-451F3743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DF0-03B6-4B72-A8F1-7D24A74E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547A-2B23-4EFB-9431-73773656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65880" y="-120960"/>
            <a:ext cx="9963000" cy="7103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ccccff"/>
                </a:solidFill>
                <a:latin typeface="Impact"/>
              </a:rPr>
              <a:t>2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ак безопасно преминахме ние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цяла седмица от работни дни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ак сме дошли във молитвен събор</a:t>
            </a:r>
            <a:br>
              <a:rPr sz="4000"/>
            </a:b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 поклонение в Божия двор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Колко е весел Господният ден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ен от Създателя благословен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ен най-приятен от всичките дн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образ на вечните ни добрини!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6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28720" y="90000"/>
            <a:ext cx="9937800" cy="6676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 като търсим прощение сег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 славното име на Бога Христа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ез този светъл ден на ценен пир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дъхни ни, Боже, Ти душевен мир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й ни почивка от грижа и труд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ай ни почивка от грях и от студ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ека ний този ден да осветим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а нашия Бог да го посвети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3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360"/>
            <a:ext cx="9153360" cy="68590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ред да се ч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днес радостен глас -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лагото слово на нашия Спас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сякъде грешните да убеди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сякъде верните да утеши!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Тъй да е всяка седмица денят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оде изминем ние земния път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осле да стигнем в небесния рай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 вечна почивка и радост без кра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9:19:59Z</dcterms:created>
  <dc:creator>TrifonTrifonow</dc:creator>
  <dc:description/>
  <dc:language>en-US</dc:language>
  <cp:lastModifiedBy>TrifonTrifonow</cp:lastModifiedBy>
  <dcterms:modified xsi:type="dcterms:W3CDTF">2005-11-21T12:14:20Z</dcterms:modified>
  <cp:revision>10</cp:revision>
  <dc:subject/>
  <dc:title>Slide 1</dc:title>
</cp:coreProperties>
</file>